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28.png" ContentType="image/png"/>
  <Override PartName="/ppt/media/image31.wmf" ContentType="image/x-wmf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4.wmf" ContentType="image/x-wmf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9.png" ContentType="image/png"/>
  <Override PartName="/ppt/media/image12.png" ContentType="image/png"/>
  <Override PartName="/ppt/media/image7.wmf" ContentType="image/x-wmf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36.png" ContentType="image/png"/>
  <Override PartName="/ppt/media/image6.png" ContentType="image/png"/>
  <Override PartName="/ppt/media/image32.wmf" ContentType="image/x-wmf"/>
  <Override PartName="/ppt/media/image2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18EE-AAF7-4AA4-A787-BDAE0B94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D928-D341-4070-8D25-34F52161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7E42-D18B-4956-8113-E52C377E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7E66-5910-4520-A096-0E196198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1D63-65EE-4501-83D0-8912F3D4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BD34-C331-479E-9A55-5DC2FD7E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2FDC-3D36-419F-B5E4-AA746FA5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8DA6-CE7F-480F-91F4-C419CDB4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802A-5AB5-44A0-B92C-D697B8D8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4BA1-AF79-4C5C-88FA-67E30D8F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488-D887-4F36-BDAC-7930978D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E35-7D23-4F24-87C0-5C54D87E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B0F7-C2FE-448F-9570-4EECAB12C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2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4.wmf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2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981080"/>
            <a:ext cx="83822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3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perties of Ration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33520" y="1676520"/>
                <a:ext cx="175248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3520" y="3048120"/>
                <a:ext cx="27432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3520" y="4267080"/>
                <a:ext cx="28191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429000" y="304920"/>
            <a:ext cx="5105520" cy="528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28600" y="998640"/>
            <a:ext cx="8686800" cy="41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533520" y="5410080"/>
          <a:ext cx="30924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5410080"/>
                    <a:ext cx="30924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800600" y="1981080"/>
          <a:ext cx="1219320" cy="500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00600" y="1981080"/>
                    <a:ext cx="12193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191120" y="3352680"/>
          <a:ext cx="2939760" cy="500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91120" y="3352680"/>
                    <a:ext cx="2939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102200" y="4572000"/>
          <a:ext cx="3119400" cy="500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02200" y="4572000"/>
                    <a:ext cx="31194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906800" y="5715000"/>
          <a:ext cx="1005120" cy="5000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906800" y="5715000"/>
                    <a:ext cx="100512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2743200" cy="540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0" t="0" r="43611" b="65498"/>
          <a:stretch/>
        </p:blipFill>
        <p:spPr>
          <a:xfrm>
            <a:off x="228600" y="1143000"/>
            <a:ext cx="6477120" cy="65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rcRect l="16250" t="34530" r="0" b="7912"/>
          <a:stretch/>
        </p:blipFill>
        <p:spPr>
          <a:xfrm>
            <a:off x="304920" y="1828800"/>
            <a:ext cx="8534160" cy="974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228600" y="5029200"/>
            <a:ext cx="891540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28600" y="3200400"/>
            <a:ext cx="1905120" cy="127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2438280" y="3200400"/>
            <a:ext cx="1905120" cy="127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4724280" y="3200400"/>
            <a:ext cx="1905120" cy="127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6934320" y="3200400"/>
            <a:ext cx="1904760" cy="127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6040" y="3048120"/>
            <a:ext cx="858708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2438280" cy="579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7360" y="2284560"/>
            <a:ext cx="83678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66680" y="1066680"/>
            <a:ext cx="6477120" cy="514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33520" y="1981080"/>
            <a:ext cx="72532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6462"/>
          <a:stretch/>
        </p:blipFill>
        <p:spPr>
          <a:xfrm>
            <a:off x="380880" y="304920"/>
            <a:ext cx="7772400" cy="1060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6320" y="3429000"/>
            <a:ext cx="8915400" cy="2220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905120" y="1523880"/>
            <a:ext cx="53337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7848720" cy="473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8763120" cy="1538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rcRect l="2565" t="34321" r="0" b="27954"/>
          <a:stretch/>
        </p:blipFill>
        <p:spPr>
          <a:xfrm>
            <a:off x="228600" y="5257800"/>
            <a:ext cx="8686800" cy="838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7848720" cy="473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04920" y="1676520"/>
            <a:ext cx="8534160" cy="1334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rcRect l="3419" t="0" r="0" b="65696"/>
          <a:stretch/>
        </p:blipFill>
        <p:spPr>
          <a:xfrm>
            <a:off x="228600" y="4038480"/>
            <a:ext cx="8610480" cy="7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3419" t="68624" r="0" b="-2911"/>
          <a:stretch/>
        </p:blipFill>
        <p:spPr>
          <a:xfrm>
            <a:off x="304920" y="4191120"/>
            <a:ext cx="8610480" cy="761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80880" y="990720"/>
            <a:ext cx="7848720" cy="473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28600" y="1600200"/>
            <a:ext cx="853452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124080" y="380880"/>
            <a:ext cx="5886720" cy="352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33280" y="803160"/>
            <a:ext cx="868212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09880" y="152280"/>
            <a:ext cx="3276720" cy="970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7200" y="838080"/>
            <a:ext cx="4952880" cy="91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4343400" y="3327480"/>
            <a:ext cx="3962520" cy="345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80880" y="1676520"/>
            <a:ext cx="2562480" cy="495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200400" y="2833560"/>
            <a:ext cx="2743200" cy="3338640"/>
            <a:chOff x="3200400" y="2833560"/>
            <a:chExt cx="2743200" cy="333864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3200400" y="2833560"/>
              <a:ext cx="2743200" cy="218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3505320" y="5181480"/>
              <a:ext cx="1828800" cy="99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52280" y="890640"/>
            <a:ext cx="8839440" cy="480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838080" y="1371600"/>
            <a:ext cx="7010640" cy="104940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28600" y="2971800"/>
            <a:ext cx="2847960" cy="3033720"/>
            <a:chOff x="228600" y="2971800"/>
            <a:chExt cx="2847960" cy="3033720"/>
          </a:xfrm>
        </p:grpSpPr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228600" y="2971800"/>
              <a:ext cx="2847960" cy="19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7"/>
            <a:stretch/>
          </p:blipFill>
          <p:spPr>
            <a:xfrm>
              <a:off x="914400" y="5181480"/>
              <a:ext cx="1143000" cy="82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5715000" y="2593800"/>
            <a:ext cx="3048120" cy="3683160"/>
            <a:chOff x="5715000" y="2593800"/>
            <a:chExt cx="3048120" cy="3683160"/>
          </a:xfrm>
        </p:grpSpPr>
        <p:pic>
          <p:nvPicPr>
            <p:cNvPr id="60" name="" descr=""/>
            <p:cNvPicPr/>
            <p:nvPr/>
          </p:nvPicPr>
          <p:blipFill>
            <a:blip r:embed="rId8"/>
            <a:stretch/>
          </p:blipFill>
          <p:spPr>
            <a:xfrm>
              <a:off x="5715000" y="2593800"/>
              <a:ext cx="3048120" cy="239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9"/>
            <a:stretch/>
          </p:blipFill>
          <p:spPr>
            <a:xfrm>
              <a:off x="6248520" y="5334120"/>
              <a:ext cx="2361960" cy="942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" descr=""/>
          <p:cNvPicPr/>
          <p:nvPr/>
        </p:nvPicPr>
        <p:blipFill>
          <a:blip r:embed="rId10"/>
          <a:srcRect l="8241" t="0" r="3429" b="0"/>
          <a:stretch/>
        </p:blipFill>
        <p:spPr>
          <a:xfrm>
            <a:off x="1752480" y="2523960"/>
            <a:ext cx="1632240" cy="981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5181480" y="2743200"/>
            <a:ext cx="8287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15240" cy="1876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62120" y="2209680"/>
            <a:ext cx="3560760" cy="4648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257800" y="2343240"/>
            <a:ext cx="303840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15240" cy="1876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076400" y="2276640"/>
            <a:ext cx="2504880" cy="4581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800600" y="2257560"/>
            <a:ext cx="27050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62456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99880" y="3200400"/>
            <a:ext cx="85442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43040"/>
            <a:ext cx="2210040" cy="622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8724960" cy="2276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22:05:12Z</dcterms:created>
  <dc:creator>Harry S. Mills</dc:creator>
  <dc:description/>
  <dc:language>en-US</dc:language>
  <cp:lastModifiedBy>Harry S. Mills</cp:lastModifiedBy>
  <dcterms:modified xsi:type="dcterms:W3CDTF">2008-01-01T03:28:00Z</dcterms:modified>
  <cp:revision>2</cp:revision>
  <dc:subject/>
  <dc:title>Slide 1</dc:title>
</cp:coreProperties>
</file>